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4186577-42B8-495D-9004-BDEF35BA1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ork is rather preliminary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ing an alternative meth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in m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finding the critical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I need to get some definitions out of th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nce go you up to 500,000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stimates start to look really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very encour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looks like our sampling method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hese estimates useful for any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here is a quick and dirty test of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function f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ad descrip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s) should converge on p_c as s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t can be evaluated using only  g_st / g_s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’s another good test of our esti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luster size vs. f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the line represents f(s)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using exac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 crosses represent f(s)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using estim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you can se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stimated data corresponds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the exac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t seems to increase monoton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s we exp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pretty encour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given that p_c is near 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looks like we have a long way to go before we converge on p_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what’s my stat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ad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talk about “clusters of size s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talking about the set of all unique clusters of tha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differentiated by shape and r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dvance&gt; Here, for example, are all of the clusters of size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fine g_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number of clusters of size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 = 3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dvance&gt; g_s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talk about the perimeter of a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 define as the number of s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are not occupied by the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adjacent to at least one site in the c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dvance&gt; here are the perimeters of all of thes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fine 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the number of clusters of size s and perimeter 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&lt;advanc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 = 3 and t =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ad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 there is a probl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ider this plot of cluster size vs. g_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esn’t look to b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til you realize th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y-axis is logarith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s increases, g_s increase *very* quick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dvance&gt; in fact, at cluster size 47, g_s has already reached 2.7*10^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’s a lot of clusters to 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eed, &lt;advanc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s can only calculates g_s up to cluster sizes of 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for g_st / g_s, we have only one up to cluster size 2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the method we have in mi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’s inadequ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could at least ge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sample of clusters of siz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uld tally up the perimeter lengths of the clusters we g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om there, we should be able to estimate g_st / g_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, that will be good enough for what we want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ow do we get this random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as simple as randomly picking clusters from the list of all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we usually don’t have such a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tunatel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believe that we have a method that will give us a random samp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First, we make an arbitrary cluster of the desired siz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use a random process called “eden growth” to make this clu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we enter the lo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randomly select a cluster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we remove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we determine if we just broke the clu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we’ve now ended up with more than one clus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we did break it, we would put the point right 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 since we didn’t break i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dd the point back at a randomly selec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imeter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then record the cluster’s perim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ardless of whether we actually moved the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n, we repeat as many times as necess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how do I know that this will give a random sampling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ll, this process is an example of a Markov Chain Monte Carlo sim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 we can make use of the mathematics of markov chai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ematicians tell 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t a Markov chain will produce a samp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 a given probability distribution 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n this case the uniform distribu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long as two properties are satisfi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irst is irreduci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ch means that if we run our simulation long enou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very state must have a chance of being reached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ardless of where we sta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ur case, you can replace the word “state” with “clust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pretty sure our process satisfies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ough we have not written a proof of it ye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econd property is &lt;advan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ionarity of 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ch means that for every state 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(point) equation must be tr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 p_xy is the probability of transitioning to Y starting from 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ur case, a transition refers to our process of moving a cluster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dvance&gt; and pi_x and pi_y ad the probabilities of picking X and Y when randomly selecting a st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second condition &lt;advance&gt; has been prove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, all told, we are fairly sure our algorithm will give us a random samp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 this only tests the algorith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lso need to test our implement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re is what we d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plot showing g_st values of cluster size 2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shows the exact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 starts represent g_st estimates using data from our algorith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you can see, these estimates are pretty decent over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t’s especially good when you consider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stimates are based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5,000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 of 3.5*10^11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F2C-53C4-43FE-85C4-FB453ED9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76A-F8AB-4FB3-B3BC-ABB47CF6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C27-9001-482B-9762-C0F80344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582-2E02-4F96-B114-C00CABC1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DDA-2529-48FB-93B4-39DDD60A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445E-2EA9-4761-852C-75C02C51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7BCE-544B-4043-9C2E-2FFFEB9C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591-DBA6-4913-9048-3028978F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1DC6-5172-4865-BFC3-0849818C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2A5-1224-46CC-A81D-77F12FA8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DF2-CC91-43B8-9C4C-8B3A4923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5262-01CF-4D5F-9C87-90F32835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0309-CEB1-4651-A4CE-9712F058B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iel’s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ov Chain Monte Carlo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800280" y="1600200"/>
            <a:ext cx="7543800" cy="45259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889440" y="601992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-534960" y="3517200"/>
            <a:ext cx="254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lusters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6400800" y="3581280"/>
            <a:ext cx="2286000" cy="1023840"/>
            <a:chOff x="6400800" y="3581280"/>
            <a:chExt cx="2286000" cy="1023840"/>
          </a:xfrm>
        </p:grpSpPr>
        <p:sp>
          <p:nvSpPr>
            <p:cNvPr id="334" name=""/>
            <p:cNvSpPr/>
            <p:nvPr/>
          </p:nvSpPr>
          <p:spPr>
            <a:xfrm>
              <a:off x="6400800" y="36576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35812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act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6400800" y="4038480"/>
              <a:ext cx="152280" cy="152640"/>
              <a:chOff x="6400800" y="4038480"/>
              <a:chExt cx="152280" cy="152640"/>
            </a:xfrm>
          </p:grpSpPr>
          <p:sp>
            <p:nvSpPr>
              <p:cNvPr id="337" name=""/>
              <p:cNvSpPr/>
              <p:nvPr/>
            </p:nvSpPr>
            <p:spPr>
              <a:xfrm>
                <a:off x="6400800" y="4114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476760" y="4038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400800" y="40384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6400800" y="40384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6553080" y="396252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timates based on sample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1908720" y="3657600"/>
            <a:ext cx="19166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≈ 3.5×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,000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(s)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s) = the value of p where the chance of forming at least one cluster of size s is the grea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converge on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evaluated with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im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(s)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800280" y="1600200"/>
            <a:ext cx="7543800" cy="45259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114800" y="6019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400800" y="3581280"/>
            <a:ext cx="2286000" cy="1023840"/>
            <a:chOff x="6400800" y="3581280"/>
            <a:chExt cx="2286000" cy="1023840"/>
          </a:xfrm>
        </p:grpSpPr>
        <p:sp>
          <p:nvSpPr>
            <p:cNvPr id="350" name=""/>
            <p:cNvSpPr/>
            <p:nvPr/>
          </p:nvSpPr>
          <p:spPr>
            <a:xfrm>
              <a:off x="6400800" y="36576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53080" y="35812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act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6400800" y="4038480"/>
              <a:ext cx="152280" cy="152640"/>
              <a:chOff x="6400800" y="4038480"/>
              <a:chExt cx="152280" cy="152640"/>
            </a:xfrm>
          </p:grpSpPr>
          <p:sp>
            <p:nvSpPr>
              <p:cNvPr id="353" name=""/>
              <p:cNvSpPr/>
              <p:nvPr/>
            </p:nvSpPr>
            <p:spPr>
              <a:xfrm>
                <a:off x="6400800" y="4114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477120" y="4038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6553080" y="396252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timates based on sample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plish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written and tested Eden growth and Markov Chain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written a small suite of utility functions to help use these programs and analyze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programs are limited to cluster siz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 cleanup/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mpt to fin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mpt to find the critical ex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write to handle very large cluster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stical analysis (determine # of samples n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stigate high density perc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defini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s of size s:” set of all unique clusters of size s as differentiated by shape and ro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umber of clusters of size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43000" y="5943600"/>
            <a:ext cx="762120" cy="152280"/>
            <a:chOff x="1143000" y="5943600"/>
            <a:chExt cx="762120" cy="152280"/>
          </a:xfrm>
        </p:grpSpPr>
        <p:sp>
          <p:nvSpPr>
            <p:cNvPr id="53" name=""/>
            <p:cNvSpPr/>
            <p:nvPr/>
          </p:nvSpPr>
          <p:spPr>
            <a:xfrm>
              <a:off x="1143000" y="5943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4792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5284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696080" y="5943600"/>
            <a:ext cx="457200" cy="457200"/>
            <a:chOff x="7696080" y="5943600"/>
            <a:chExt cx="457200" cy="457200"/>
          </a:xfrm>
        </p:grpSpPr>
        <p:sp>
          <p:nvSpPr>
            <p:cNvPr id="57" name=""/>
            <p:cNvSpPr/>
            <p:nvPr/>
          </p:nvSpPr>
          <p:spPr>
            <a:xfrm>
              <a:off x="769608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0100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01000" y="6248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666880" y="5638680"/>
            <a:ext cx="152640" cy="762120"/>
            <a:chOff x="2666880" y="5638680"/>
            <a:chExt cx="152640" cy="762120"/>
          </a:xfrm>
        </p:grpSpPr>
        <p:sp>
          <p:nvSpPr>
            <p:cNvPr id="61" name=""/>
            <p:cNvSpPr/>
            <p:nvPr/>
          </p:nvSpPr>
          <p:spPr>
            <a:xfrm rot="5400000">
              <a:off x="2666880" y="56386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2666880" y="59432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2666880" y="62481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657600" y="5638680"/>
            <a:ext cx="457200" cy="457200"/>
            <a:chOff x="3657600" y="5638680"/>
            <a:chExt cx="457200" cy="457200"/>
          </a:xfrm>
        </p:grpSpPr>
        <p:sp>
          <p:nvSpPr>
            <p:cNvPr id="65" name=""/>
            <p:cNvSpPr/>
            <p:nvPr/>
          </p:nvSpPr>
          <p:spPr>
            <a:xfrm rot="5400000">
              <a:off x="3962520" y="5638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396252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365760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029200" y="5638680"/>
            <a:ext cx="457200" cy="457200"/>
            <a:chOff x="5029200" y="5638680"/>
            <a:chExt cx="457200" cy="457200"/>
          </a:xfrm>
        </p:grpSpPr>
        <p:sp>
          <p:nvSpPr>
            <p:cNvPr id="69" name=""/>
            <p:cNvSpPr/>
            <p:nvPr/>
          </p:nvSpPr>
          <p:spPr>
            <a:xfrm rot="10800000">
              <a:off x="533412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0800000">
              <a:off x="502920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0800000">
              <a:off x="5029200" y="5638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400800" y="5943600"/>
            <a:ext cx="457200" cy="457200"/>
            <a:chOff x="6400800" y="5943600"/>
            <a:chExt cx="457200" cy="457200"/>
          </a:xfrm>
        </p:grpSpPr>
        <p:sp>
          <p:nvSpPr>
            <p:cNvPr id="73" name=""/>
            <p:cNvSpPr/>
            <p:nvPr/>
          </p:nvSpPr>
          <p:spPr>
            <a:xfrm rot="16200000">
              <a:off x="6400800" y="6248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640080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670572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04920" y="48006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4419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defini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meter: number of sites not in the cluster but adjacent to some site in the clu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number of clusters of size s and perimeter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3000" y="5943600"/>
            <a:ext cx="762120" cy="152280"/>
            <a:chOff x="1143000" y="5943600"/>
            <a:chExt cx="762120" cy="152280"/>
          </a:xfrm>
        </p:grpSpPr>
        <p:sp>
          <p:nvSpPr>
            <p:cNvPr id="81" name=""/>
            <p:cNvSpPr/>
            <p:nvPr/>
          </p:nvSpPr>
          <p:spPr>
            <a:xfrm>
              <a:off x="1143000" y="5943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5284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696080" y="5943600"/>
            <a:ext cx="457200" cy="457200"/>
            <a:chOff x="7696080" y="5943600"/>
            <a:chExt cx="457200" cy="457200"/>
          </a:xfrm>
        </p:grpSpPr>
        <p:sp>
          <p:nvSpPr>
            <p:cNvPr id="85" name=""/>
            <p:cNvSpPr/>
            <p:nvPr/>
          </p:nvSpPr>
          <p:spPr>
            <a:xfrm>
              <a:off x="769608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0100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01000" y="6248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666880" y="5638680"/>
            <a:ext cx="152640" cy="762120"/>
            <a:chOff x="2666880" y="5638680"/>
            <a:chExt cx="152640" cy="762120"/>
          </a:xfrm>
        </p:grpSpPr>
        <p:sp>
          <p:nvSpPr>
            <p:cNvPr id="89" name=""/>
            <p:cNvSpPr/>
            <p:nvPr/>
          </p:nvSpPr>
          <p:spPr>
            <a:xfrm rot="5400000">
              <a:off x="2666880" y="56386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5400000">
              <a:off x="2666880" y="59432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5400000">
              <a:off x="2666880" y="62481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57600" y="5638680"/>
            <a:ext cx="457200" cy="457200"/>
            <a:chOff x="3657600" y="5638680"/>
            <a:chExt cx="457200" cy="457200"/>
          </a:xfrm>
        </p:grpSpPr>
        <p:sp>
          <p:nvSpPr>
            <p:cNvPr id="93" name=""/>
            <p:cNvSpPr/>
            <p:nvPr/>
          </p:nvSpPr>
          <p:spPr>
            <a:xfrm rot="5400000">
              <a:off x="3962520" y="5638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5400000">
              <a:off x="396252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365760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029200" y="5638680"/>
            <a:ext cx="457200" cy="457200"/>
            <a:chOff x="5029200" y="5638680"/>
            <a:chExt cx="457200" cy="457200"/>
          </a:xfrm>
        </p:grpSpPr>
        <p:sp>
          <p:nvSpPr>
            <p:cNvPr id="97" name=""/>
            <p:cNvSpPr/>
            <p:nvPr/>
          </p:nvSpPr>
          <p:spPr>
            <a:xfrm rot="10800000">
              <a:off x="533412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0800000">
              <a:off x="502920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0800000">
              <a:off x="5029200" y="5638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400800" y="5943600"/>
            <a:ext cx="457200" cy="457200"/>
            <a:chOff x="6400800" y="5943600"/>
            <a:chExt cx="457200" cy="457200"/>
          </a:xfrm>
        </p:grpSpPr>
        <p:sp>
          <p:nvSpPr>
            <p:cNvPr id="101" name=""/>
            <p:cNvSpPr/>
            <p:nvPr/>
          </p:nvSpPr>
          <p:spPr>
            <a:xfrm rot="16200000">
              <a:off x="6400800" y="6248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6200000">
              <a:off x="640080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6705720" y="5943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04920" y="4419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914400" y="4876920"/>
            <a:ext cx="7543800" cy="1829160"/>
            <a:chOff x="914400" y="4876920"/>
            <a:chExt cx="7543800" cy="1829160"/>
          </a:xfrm>
        </p:grpSpPr>
        <p:grpSp>
          <p:nvGrpSpPr>
            <p:cNvPr id="106" name=""/>
            <p:cNvGrpSpPr/>
            <p:nvPr/>
          </p:nvGrpSpPr>
          <p:grpSpPr>
            <a:xfrm>
              <a:off x="914400" y="5715000"/>
              <a:ext cx="1219320" cy="609120"/>
              <a:chOff x="914400" y="5715000"/>
              <a:chExt cx="1219320" cy="60912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1143000" y="5715000"/>
                <a:ext cx="152640" cy="152280"/>
                <a:chOff x="1143000" y="5715000"/>
                <a:chExt cx="152640" cy="1522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143000" y="571500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>
                  <a:off x="1143000" y="571500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447560" y="5715000"/>
                <a:ext cx="152640" cy="152280"/>
                <a:chOff x="1447560" y="5715000"/>
                <a:chExt cx="152640" cy="1522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447920" y="57150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1447560" y="57150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752480" y="5715000"/>
                <a:ext cx="152640" cy="152280"/>
                <a:chOff x="1752480" y="5715000"/>
                <a:chExt cx="152640" cy="1522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752840" y="57150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1752480" y="57150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143000" y="6171840"/>
                <a:ext cx="152640" cy="152280"/>
                <a:chOff x="1143000" y="6171840"/>
                <a:chExt cx="152640" cy="152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143000" y="617184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1143000" y="617184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1447560" y="6171840"/>
                <a:ext cx="152640" cy="152280"/>
                <a:chOff x="1447560" y="6171840"/>
                <a:chExt cx="152640" cy="1522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447920" y="61718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1447560" y="61718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752480" y="6171840"/>
                <a:ext cx="152640" cy="152280"/>
                <a:chOff x="1752480" y="6171840"/>
                <a:chExt cx="152640" cy="1522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752840" y="61718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1752480" y="61718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1981080" y="5943240"/>
                <a:ext cx="152640" cy="152280"/>
                <a:chOff x="1981080" y="5943240"/>
                <a:chExt cx="152640" cy="1522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981440" y="59432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1981080" y="59432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914400" y="5943240"/>
                <a:ext cx="152640" cy="152280"/>
                <a:chOff x="914400" y="5943240"/>
                <a:chExt cx="152640" cy="152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914400" y="594324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914400" y="594324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2438640" y="5410080"/>
              <a:ext cx="609480" cy="1219320"/>
              <a:chOff x="2438640" y="5410080"/>
              <a:chExt cx="609480" cy="121932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2895840" y="5638680"/>
                <a:ext cx="152280" cy="152640"/>
                <a:chOff x="2895840" y="5638680"/>
                <a:chExt cx="152280" cy="152640"/>
              </a:xfrm>
            </p:grpSpPr>
            <p:sp>
              <p:nvSpPr>
                <p:cNvPr id="133" name=""/>
                <p:cNvSpPr/>
                <p:nvPr/>
              </p:nvSpPr>
              <p:spPr>
                <a:xfrm flipH="1">
                  <a:off x="2895840" y="5638680"/>
                  <a:ext cx="15228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 flipV="1">
                  <a:off x="2895840" y="5638680"/>
                  <a:ext cx="15228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895840" y="5943240"/>
                <a:ext cx="152280" cy="152640"/>
                <a:chOff x="2895840" y="5943240"/>
                <a:chExt cx="152280" cy="152640"/>
              </a:xfrm>
            </p:grpSpPr>
            <p:sp>
              <p:nvSpPr>
                <p:cNvPr id="136" name=""/>
                <p:cNvSpPr/>
                <p:nvPr/>
              </p:nvSpPr>
              <p:spPr>
                <a:xfrm flipH="1">
                  <a:off x="2895840" y="59436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>
                  <a:off x="2895840" y="59432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895840" y="6248160"/>
                <a:ext cx="152280" cy="152640"/>
                <a:chOff x="2895840" y="6248160"/>
                <a:chExt cx="152280" cy="152640"/>
              </a:xfrm>
            </p:grpSpPr>
            <p:sp>
              <p:nvSpPr>
                <p:cNvPr id="139" name=""/>
                <p:cNvSpPr/>
                <p:nvPr/>
              </p:nvSpPr>
              <p:spPr>
                <a:xfrm flipH="1">
                  <a:off x="2895840" y="62485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flipV="1">
                  <a:off x="2895840" y="624816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2438640" y="5638680"/>
                <a:ext cx="152280" cy="152640"/>
                <a:chOff x="2438640" y="5638680"/>
                <a:chExt cx="152280" cy="152640"/>
              </a:xfrm>
            </p:grpSpPr>
            <p:sp>
              <p:nvSpPr>
                <p:cNvPr id="142" name=""/>
                <p:cNvSpPr/>
                <p:nvPr/>
              </p:nvSpPr>
              <p:spPr>
                <a:xfrm flipH="1">
                  <a:off x="2438640" y="5638680"/>
                  <a:ext cx="15228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flipV="1">
                  <a:off x="2438640" y="5638680"/>
                  <a:ext cx="15228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438640" y="5943240"/>
                <a:ext cx="152280" cy="152640"/>
                <a:chOff x="2438640" y="5943240"/>
                <a:chExt cx="152280" cy="152640"/>
              </a:xfrm>
            </p:grpSpPr>
            <p:sp>
              <p:nvSpPr>
                <p:cNvPr id="145" name=""/>
                <p:cNvSpPr/>
                <p:nvPr/>
              </p:nvSpPr>
              <p:spPr>
                <a:xfrm flipH="1">
                  <a:off x="2438640" y="59436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2438640" y="59432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438640" y="6248160"/>
                <a:ext cx="152280" cy="152640"/>
                <a:chOff x="2438640" y="6248160"/>
                <a:chExt cx="152280" cy="152640"/>
              </a:xfrm>
            </p:grpSpPr>
            <p:sp>
              <p:nvSpPr>
                <p:cNvPr id="148" name=""/>
                <p:cNvSpPr/>
                <p:nvPr/>
              </p:nvSpPr>
              <p:spPr>
                <a:xfrm flipH="1">
                  <a:off x="2438640" y="62485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2438640" y="624816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667240" y="6476760"/>
                <a:ext cx="152280" cy="152640"/>
                <a:chOff x="2667240" y="6476760"/>
                <a:chExt cx="152280" cy="15264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2667240" y="64771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flipV="1">
                  <a:off x="2667240" y="647676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667240" y="5410080"/>
                <a:ext cx="152280" cy="152640"/>
                <a:chOff x="2667240" y="5410080"/>
                <a:chExt cx="152280" cy="152640"/>
              </a:xfrm>
            </p:grpSpPr>
            <p:sp>
              <p:nvSpPr>
                <p:cNvPr id="154" name=""/>
                <p:cNvSpPr/>
                <p:nvPr/>
              </p:nvSpPr>
              <p:spPr>
                <a:xfrm flipH="1">
                  <a:off x="2667240" y="5410080"/>
                  <a:ext cx="15228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2667240" y="5410080"/>
                  <a:ext cx="15228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6" name=""/>
            <p:cNvGrpSpPr/>
            <p:nvPr/>
          </p:nvGrpSpPr>
          <p:grpSpPr>
            <a:xfrm>
              <a:off x="7391160" y="5638680"/>
              <a:ext cx="1067040" cy="1066680"/>
              <a:chOff x="7391160" y="5638680"/>
              <a:chExt cx="1067040" cy="106668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7696080" y="6248160"/>
                <a:ext cx="152640" cy="152280"/>
                <a:chOff x="7696080" y="6248160"/>
                <a:chExt cx="152640" cy="1522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696440" y="624816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7696080" y="624816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391160" y="5943240"/>
                <a:ext cx="152640" cy="152280"/>
                <a:chOff x="7391160" y="5943240"/>
                <a:chExt cx="152640" cy="1522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7391520" y="59432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7391160" y="59432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8001000" y="6553080"/>
                <a:ext cx="152640" cy="152280"/>
                <a:chOff x="8001000" y="6553080"/>
                <a:chExt cx="152640" cy="1522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8001000" y="65530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8001000" y="65530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8305560" y="6248160"/>
                <a:ext cx="152640" cy="152280"/>
                <a:chOff x="8305560" y="6248160"/>
                <a:chExt cx="152640" cy="1522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8305920" y="624816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>
                  <a:off x="8305560" y="624816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8305560" y="5943240"/>
                <a:ext cx="152640" cy="152280"/>
                <a:chOff x="8305560" y="5943240"/>
                <a:chExt cx="152640" cy="152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8305920" y="59432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8305560" y="59432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696080" y="5638680"/>
                <a:ext cx="152640" cy="152280"/>
                <a:chOff x="7696080" y="5638680"/>
                <a:chExt cx="152640" cy="1522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696440" y="563868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7696080" y="563868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8001000" y="5638680"/>
                <a:ext cx="152640" cy="152280"/>
                <a:chOff x="8001000" y="5638680"/>
                <a:chExt cx="152640" cy="1522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8001000" y="56386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8001000" y="56386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3353040" y="5333760"/>
              <a:ext cx="1066680" cy="1067040"/>
              <a:chOff x="3353040" y="5333760"/>
              <a:chExt cx="1066680" cy="106704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3657960" y="5638680"/>
                <a:ext cx="152280" cy="152640"/>
                <a:chOff x="3657960" y="5638680"/>
                <a:chExt cx="152280" cy="152640"/>
              </a:xfrm>
            </p:grpSpPr>
            <p:sp>
              <p:nvSpPr>
                <p:cNvPr id="180" name=""/>
                <p:cNvSpPr/>
                <p:nvPr/>
              </p:nvSpPr>
              <p:spPr>
                <a:xfrm flipH="1">
                  <a:off x="3657960" y="56390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>
                  <a:off x="3657960" y="563868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962880" y="5333760"/>
                <a:ext cx="152280" cy="152640"/>
                <a:chOff x="3962880" y="5333760"/>
                <a:chExt cx="152280" cy="152640"/>
              </a:xfrm>
            </p:grpSpPr>
            <p:sp>
              <p:nvSpPr>
                <p:cNvPr id="183" name=""/>
                <p:cNvSpPr/>
                <p:nvPr/>
              </p:nvSpPr>
              <p:spPr>
                <a:xfrm flipH="1">
                  <a:off x="3962880" y="53341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flipV="1">
                  <a:off x="3962880" y="533376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353040" y="5943600"/>
                <a:ext cx="152280" cy="152640"/>
                <a:chOff x="3353040" y="5943600"/>
                <a:chExt cx="152280" cy="15264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3353040" y="5943600"/>
                  <a:ext cx="15228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3353040" y="5943600"/>
                  <a:ext cx="15228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3657960" y="6248160"/>
                <a:ext cx="152280" cy="152640"/>
                <a:chOff x="3657960" y="6248160"/>
                <a:chExt cx="152280" cy="152640"/>
              </a:xfrm>
            </p:grpSpPr>
            <p:sp>
              <p:nvSpPr>
                <p:cNvPr id="189" name=""/>
                <p:cNvSpPr/>
                <p:nvPr/>
              </p:nvSpPr>
              <p:spPr>
                <a:xfrm flipH="1">
                  <a:off x="3657960" y="62485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flipV="1">
                  <a:off x="3657960" y="624816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962880" y="6248160"/>
                <a:ext cx="152280" cy="152640"/>
                <a:chOff x="3962880" y="6248160"/>
                <a:chExt cx="152280" cy="152640"/>
              </a:xfrm>
            </p:grpSpPr>
            <p:sp>
              <p:nvSpPr>
                <p:cNvPr id="192" name=""/>
                <p:cNvSpPr/>
                <p:nvPr/>
              </p:nvSpPr>
              <p:spPr>
                <a:xfrm flipH="1">
                  <a:off x="3962880" y="62485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>
                  <a:off x="3962880" y="624816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267440" y="5638680"/>
                <a:ext cx="152280" cy="152640"/>
                <a:chOff x="4267440" y="5638680"/>
                <a:chExt cx="152280" cy="152640"/>
              </a:xfrm>
            </p:grpSpPr>
            <p:sp>
              <p:nvSpPr>
                <p:cNvPr id="195" name=""/>
                <p:cNvSpPr/>
                <p:nvPr/>
              </p:nvSpPr>
              <p:spPr>
                <a:xfrm flipH="1">
                  <a:off x="4267440" y="56390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flipV="1">
                  <a:off x="4267440" y="563868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4267440" y="5943600"/>
                <a:ext cx="152280" cy="152640"/>
                <a:chOff x="4267440" y="5943600"/>
                <a:chExt cx="152280" cy="152640"/>
              </a:xfrm>
            </p:grpSpPr>
            <p:sp>
              <p:nvSpPr>
                <p:cNvPr id="198" name=""/>
                <p:cNvSpPr/>
                <p:nvPr/>
              </p:nvSpPr>
              <p:spPr>
                <a:xfrm flipH="1">
                  <a:off x="4267440" y="5943600"/>
                  <a:ext cx="15228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 flipV="1">
                  <a:off x="4267440" y="5943600"/>
                  <a:ext cx="15228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6095880" y="5639040"/>
              <a:ext cx="1066680" cy="1067040"/>
              <a:chOff x="6095880" y="5639040"/>
              <a:chExt cx="1066680" cy="10670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6705360" y="6248520"/>
                <a:ext cx="152280" cy="152640"/>
                <a:chOff x="6705360" y="6248520"/>
                <a:chExt cx="152280" cy="152640"/>
              </a:xfrm>
            </p:grpSpPr>
            <p:sp>
              <p:nvSpPr>
                <p:cNvPr id="202" name=""/>
                <p:cNvSpPr/>
                <p:nvPr/>
              </p:nvSpPr>
              <p:spPr>
                <a:xfrm flipV="1">
                  <a:off x="6705360" y="62485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705360" y="624888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400440" y="6553440"/>
                <a:ext cx="152280" cy="152640"/>
                <a:chOff x="6400440" y="6553440"/>
                <a:chExt cx="152280" cy="15264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6400440" y="65534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400440" y="65538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010280" y="5943600"/>
                <a:ext cx="152280" cy="152640"/>
                <a:chOff x="7010280" y="5943600"/>
                <a:chExt cx="152280" cy="152640"/>
              </a:xfrm>
            </p:grpSpPr>
            <p:sp>
              <p:nvSpPr>
                <p:cNvPr id="208" name=""/>
                <p:cNvSpPr/>
                <p:nvPr/>
              </p:nvSpPr>
              <p:spPr>
                <a:xfrm flipV="1">
                  <a:off x="7010280" y="5943600"/>
                  <a:ext cx="15228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10280" y="5943600"/>
                  <a:ext cx="15228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705360" y="5639040"/>
                <a:ext cx="152280" cy="152640"/>
                <a:chOff x="6705360" y="5639040"/>
                <a:chExt cx="152280" cy="152640"/>
              </a:xfrm>
            </p:grpSpPr>
            <p:sp>
              <p:nvSpPr>
                <p:cNvPr id="211" name=""/>
                <p:cNvSpPr/>
                <p:nvPr/>
              </p:nvSpPr>
              <p:spPr>
                <a:xfrm flipV="1">
                  <a:off x="6705360" y="56390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705360" y="56394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400440" y="5639040"/>
                <a:ext cx="152280" cy="152640"/>
                <a:chOff x="6400440" y="5639040"/>
                <a:chExt cx="152280" cy="152640"/>
              </a:xfrm>
            </p:grpSpPr>
            <p:sp>
              <p:nvSpPr>
                <p:cNvPr id="214" name=""/>
                <p:cNvSpPr/>
                <p:nvPr/>
              </p:nvSpPr>
              <p:spPr>
                <a:xfrm flipV="1">
                  <a:off x="6400440" y="56390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400440" y="56394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095880" y="6248520"/>
                <a:ext cx="152280" cy="152640"/>
                <a:chOff x="6095880" y="6248520"/>
                <a:chExt cx="152280" cy="152640"/>
              </a:xfrm>
            </p:grpSpPr>
            <p:sp>
              <p:nvSpPr>
                <p:cNvPr id="217" name=""/>
                <p:cNvSpPr/>
                <p:nvPr/>
              </p:nvSpPr>
              <p:spPr>
                <a:xfrm flipV="1">
                  <a:off x="6095880" y="62485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095880" y="624888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095880" y="5943600"/>
                <a:ext cx="152280" cy="152640"/>
                <a:chOff x="6095880" y="5943600"/>
                <a:chExt cx="152280" cy="152640"/>
              </a:xfrm>
            </p:grpSpPr>
            <p:sp>
              <p:nvSpPr>
                <p:cNvPr id="220" name=""/>
                <p:cNvSpPr/>
                <p:nvPr/>
              </p:nvSpPr>
              <p:spPr>
                <a:xfrm flipV="1">
                  <a:off x="6095880" y="5943600"/>
                  <a:ext cx="15228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095880" y="5943600"/>
                  <a:ext cx="15228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4724640" y="5333760"/>
              <a:ext cx="1067040" cy="1066680"/>
              <a:chOff x="4724640" y="5333760"/>
              <a:chExt cx="1067040" cy="10666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5334120" y="5638680"/>
                <a:ext cx="152640" cy="152280"/>
                <a:chOff x="5334120" y="5638680"/>
                <a:chExt cx="152640" cy="152280"/>
              </a:xfrm>
            </p:grpSpPr>
            <p:sp>
              <p:nvSpPr>
                <p:cNvPr id="224" name=""/>
                <p:cNvSpPr/>
                <p:nvPr/>
              </p:nvSpPr>
              <p:spPr>
                <a:xfrm flipH="1" flipV="1">
                  <a:off x="5334120" y="563868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5334480" y="563868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639040" y="5943600"/>
                <a:ext cx="152640" cy="152280"/>
                <a:chOff x="5639040" y="5943600"/>
                <a:chExt cx="152640" cy="152280"/>
              </a:xfrm>
            </p:grpSpPr>
            <p:sp>
              <p:nvSpPr>
                <p:cNvPr id="227" name=""/>
                <p:cNvSpPr/>
                <p:nvPr/>
              </p:nvSpPr>
              <p:spPr>
                <a:xfrm flipH="1" flipV="1">
                  <a:off x="5639040" y="59436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5639400" y="59436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029200" y="5333760"/>
                <a:ext cx="152640" cy="152280"/>
                <a:chOff x="5029200" y="5333760"/>
                <a:chExt cx="152640" cy="152280"/>
              </a:xfrm>
            </p:grpSpPr>
            <p:sp>
              <p:nvSpPr>
                <p:cNvPr id="230" name=""/>
                <p:cNvSpPr/>
                <p:nvPr/>
              </p:nvSpPr>
              <p:spPr>
                <a:xfrm flipH="1" flipV="1">
                  <a:off x="5029200" y="533376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5029200" y="533376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4724640" y="5638680"/>
                <a:ext cx="152640" cy="152280"/>
                <a:chOff x="4724640" y="5638680"/>
                <a:chExt cx="152640" cy="152280"/>
              </a:xfrm>
            </p:grpSpPr>
            <p:sp>
              <p:nvSpPr>
                <p:cNvPr id="233" name=""/>
                <p:cNvSpPr/>
                <p:nvPr/>
              </p:nvSpPr>
              <p:spPr>
                <a:xfrm flipH="1" flipV="1">
                  <a:off x="4724640" y="563868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4725000" y="563868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724640" y="5943600"/>
                <a:ext cx="152640" cy="152280"/>
                <a:chOff x="4724640" y="5943600"/>
                <a:chExt cx="152640" cy="152280"/>
              </a:xfrm>
            </p:grpSpPr>
            <p:sp>
              <p:nvSpPr>
                <p:cNvPr id="236" name=""/>
                <p:cNvSpPr/>
                <p:nvPr/>
              </p:nvSpPr>
              <p:spPr>
                <a:xfrm flipH="1" flipV="1">
                  <a:off x="4724640" y="59436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4725000" y="594360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5334120" y="6248160"/>
                <a:ext cx="152640" cy="152280"/>
                <a:chOff x="5334120" y="6248160"/>
                <a:chExt cx="152640" cy="152280"/>
              </a:xfrm>
            </p:grpSpPr>
            <p:sp>
              <p:nvSpPr>
                <p:cNvPr id="239" name=""/>
                <p:cNvSpPr/>
                <p:nvPr/>
              </p:nvSpPr>
              <p:spPr>
                <a:xfrm flipH="1" flipV="1">
                  <a:off x="5334120" y="624816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5334480" y="624816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5029200" y="6248160"/>
                <a:ext cx="152640" cy="152280"/>
                <a:chOff x="5029200" y="6248160"/>
                <a:chExt cx="152640" cy="152280"/>
              </a:xfrm>
            </p:grpSpPr>
            <p:sp>
              <p:nvSpPr>
                <p:cNvPr id="242" name=""/>
                <p:cNvSpPr/>
                <p:nvPr/>
              </p:nvSpPr>
              <p:spPr>
                <a:xfrm flipH="1" flipV="1">
                  <a:off x="5029200" y="624816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5029200" y="624816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>
              <a:off x="6324480" y="48769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52880" y="48769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86200" y="48769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24680" y="48769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90920" y="48769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71600" y="48769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04920" y="4876920"/>
            <a:ext cx="914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for alternative method to find critical ex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known method for calculating this exactly: Counting up all the clu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 increases,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=47,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2.7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uters can only calculate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s ≤ 47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 ≤ 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18080" y="1600200"/>
          <a:ext cx="3747960" cy="45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080" y="1600200"/>
                    <a:ext cx="374796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dom Sampling: a so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clusters of size s, take a random s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ly up the perimeter lengths of the sampled clu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tally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a cluster via Eden grow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ly select a cluster point. Remov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if this action broke the clu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did, put the point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add a point to a randomly selected perimeter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perimeter length of whatever cluster we end up wi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step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63244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6324480" y="22856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6019560" y="2286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6933960" y="22856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0800000">
            <a:off x="662904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2590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294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933960" y="1981080"/>
            <a:ext cx="152640" cy="152280"/>
            <a:chOff x="6933960" y="1981080"/>
            <a:chExt cx="152640" cy="152280"/>
          </a:xfrm>
        </p:grpSpPr>
        <p:sp>
          <p:nvSpPr>
            <p:cNvPr id="270" name=""/>
            <p:cNvSpPr/>
            <p:nvPr/>
          </p:nvSpPr>
          <p:spPr>
            <a:xfrm>
              <a:off x="6934320" y="19810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933960" y="19810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238880" y="2286000"/>
            <a:ext cx="152640" cy="152280"/>
            <a:chOff x="7238880" y="2286000"/>
            <a:chExt cx="152640" cy="152280"/>
          </a:xfrm>
        </p:grpSpPr>
        <p:sp>
          <p:nvSpPr>
            <p:cNvPr id="273" name=""/>
            <p:cNvSpPr/>
            <p:nvPr/>
          </p:nvSpPr>
          <p:spPr>
            <a:xfrm>
              <a:off x="7238880" y="22860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238880" y="22860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238880" y="2590920"/>
            <a:ext cx="152640" cy="152280"/>
            <a:chOff x="7238880" y="2590920"/>
            <a:chExt cx="152640" cy="152280"/>
          </a:xfrm>
        </p:grpSpPr>
        <p:sp>
          <p:nvSpPr>
            <p:cNvPr id="276" name=""/>
            <p:cNvSpPr/>
            <p:nvPr/>
          </p:nvSpPr>
          <p:spPr>
            <a:xfrm>
              <a:off x="7238880" y="25909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238880" y="25909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933960" y="2895480"/>
            <a:ext cx="152640" cy="152280"/>
            <a:chOff x="6933960" y="2895480"/>
            <a:chExt cx="152640" cy="152280"/>
          </a:xfrm>
        </p:grpSpPr>
        <p:sp>
          <p:nvSpPr>
            <p:cNvPr id="279" name=""/>
            <p:cNvSpPr/>
            <p:nvPr/>
          </p:nvSpPr>
          <p:spPr>
            <a:xfrm>
              <a:off x="6934320" y="28954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933960" y="28954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629040" y="2895480"/>
            <a:ext cx="152640" cy="152280"/>
            <a:chOff x="6629040" y="2895480"/>
            <a:chExt cx="152640" cy="152280"/>
          </a:xfrm>
        </p:grpSpPr>
        <p:sp>
          <p:nvSpPr>
            <p:cNvPr id="282" name=""/>
            <p:cNvSpPr/>
            <p:nvPr/>
          </p:nvSpPr>
          <p:spPr>
            <a:xfrm>
              <a:off x="6629400" y="28954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629040" y="28954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324480" y="2895480"/>
            <a:ext cx="152640" cy="152280"/>
            <a:chOff x="6324480" y="2895480"/>
            <a:chExt cx="152640" cy="152280"/>
          </a:xfrm>
        </p:grpSpPr>
        <p:sp>
          <p:nvSpPr>
            <p:cNvPr id="285" name=""/>
            <p:cNvSpPr/>
            <p:nvPr/>
          </p:nvSpPr>
          <p:spPr>
            <a:xfrm>
              <a:off x="6324480" y="289548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324480" y="289548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19560" y="2590920"/>
            <a:ext cx="152640" cy="152280"/>
            <a:chOff x="6019560" y="2590920"/>
            <a:chExt cx="152640" cy="152280"/>
          </a:xfrm>
        </p:grpSpPr>
        <p:sp>
          <p:nvSpPr>
            <p:cNvPr id="288" name=""/>
            <p:cNvSpPr/>
            <p:nvPr/>
          </p:nvSpPr>
          <p:spPr>
            <a:xfrm>
              <a:off x="6019920" y="25909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019560" y="25909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714640" y="2286000"/>
            <a:ext cx="152640" cy="152280"/>
            <a:chOff x="5714640" y="2286000"/>
            <a:chExt cx="152640" cy="152280"/>
          </a:xfrm>
        </p:grpSpPr>
        <p:sp>
          <p:nvSpPr>
            <p:cNvPr id="291" name=""/>
            <p:cNvSpPr/>
            <p:nvPr/>
          </p:nvSpPr>
          <p:spPr>
            <a:xfrm>
              <a:off x="5715000" y="2286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714640" y="2286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019560" y="1981080"/>
            <a:ext cx="152640" cy="152280"/>
            <a:chOff x="6019560" y="1981080"/>
            <a:chExt cx="152640" cy="152280"/>
          </a:xfrm>
        </p:grpSpPr>
        <p:sp>
          <p:nvSpPr>
            <p:cNvPr id="294" name=""/>
            <p:cNvSpPr/>
            <p:nvPr/>
          </p:nvSpPr>
          <p:spPr>
            <a:xfrm>
              <a:off x="6019920" y="19810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6019560" y="198108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629040" y="1676520"/>
            <a:ext cx="152640" cy="152280"/>
            <a:chOff x="6629040" y="1676520"/>
            <a:chExt cx="152640" cy="152280"/>
          </a:xfrm>
        </p:grpSpPr>
        <p:sp>
          <p:nvSpPr>
            <p:cNvPr id="297" name=""/>
            <p:cNvSpPr/>
            <p:nvPr/>
          </p:nvSpPr>
          <p:spPr>
            <a:xfrm>
              <a:off x="6629400" y="16765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6629040" y="16765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324480" y="1676520"/>
            <a:ext cx="152640" cy="152280"/>
            <a:chOff x="6324480" y="1676520"/>
            <a:chExt cx="152640" cy="152280"/>
          </a:xfrm>
        </p:grpSpPr>
        <p:sp>
          <p:nvSpPr>
            <p:cNvPr id="300" name=""/>
            <p:cNvSpPr/>
            <p:nvPr/>
          </p:nvSpPr>
          <p:spPr>
            <a:xfrm>
              <a:off x="6324480" y="16765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6324480" y="16765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629040" y="2286000"/>
            <a:ext cx="152640" cy="152280"/>
            <a:chOff x="6629040" y="2286000"/>
            <a:chExt cx="152640" cy="152280"/>
          </a:xfrm>
        </p:grpSpPr>
        <p:sp>
          <p:nvSpPr>
            <p:cNvPr id="303" name=""/>
            <p:cNvSpPr/>
            <p:nvPr/>
          </p:nvSpPr>
          <p:spPr>
            <a:xfrm>
              <a:off x="6629400" y="2286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6629040" y="2286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 rot="10800000">
            <a:off x="6629040" y="228564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629040" y="3200400"/>
            <a:ext cx="152640" cy="152280"/>
            <a:chOff x="6629040" y="3200400"/>
            <a:chExt cx="152640" cy="152280"/>
          </a:xfrm>
        </p:grpSpPr>
        <p:sp>
          <p:nvSpPr>
            <p:cNvPr id="307" name=""/>
            <p:cNvSpPr/>
            <p:nvPr/>
          </p:nvSpPr>
          <p:spPr>
            <a:xfrm>
              <a:off x="6629400" y="32004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6629040" y="32004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2871E-006 L 0.10833 0.14424 E">
                                      <p:cBhvr>
                                        <p:cTn id="125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3 0.14424 L 0 0.08876 E">
                                      <p:cBhvr>
                                        <p:cTn id="140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7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ing Method: the Math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Markov chain to produce a sample with probability distributio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we must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2590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371520" indent="-371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educibil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we run the process long enough, every state has a chance of being reached, regardless of where we star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onarity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r each state Y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7360" indent="-325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robability of transitioning to state Y when starting from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360" indent="-325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probabilities of picking X and Y when randomly selecting a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600200" y="4419720"/>
                <a:ext cx="22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r>
                              <m:t xml:space="preserve">y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152280" y="26049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40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800280" y="1600200"/>
            <a:ext cx="7543800" cy="4525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889440" y="601992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-534960" y="3517200"/>
            <a:ext cx="254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clusters (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08360" y="3657600"/>
            <a:ext cx="16635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×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000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400800" y="3581280"/>
            <a:ext cx="2286000" cy="1023840"/>
            <a:chOff x="6400800" y="3581280"/>
            <a:chExt cx="2286000" cy="1023840"/>
          </a:xfrm>
        </p:grpSpPr>
        <p:sp>
          <p:nvSpPr>
            <p:cNvPr id="321" name=""/>
            <p:cNvSpPr/>
            <p:nvPr/>
          </p:nvSpPr>
          <p:spPr>
            <a:xfrm>
              <a:off x="6400800" y="36576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553080" y="35812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act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6400800" y="4038480"/>
              <a:ext cx="152280" cy="152640"/>
              <a:chOff x="6400800" y="4038480"/>
              <a:chExt cx="152280" cy="152640"/>
            </a:xfrm>
          </p:grpSpPr>
          <p:sp>
            <p:nvSpPr>
              <p:cNvPr id="324" name=""/>
              <p:cNvSpPr/>
              <p:nvPr/>
            </p:nvSpPr>
            <p:spPr>
              <a:xfrm>
                <a:off x="6400800" y="4114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476760" y="4038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400800" y="40384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400800" y="40384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553080" y="396252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stimates based on sample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14:53:39Z</dcterms:created>
  <dc:creator>IMP Student</dc:creator>
  <dc:description/>
  <dc:language>en-US</dc:language>
  <cp:lastModifiedBy>IMP Student</cp:lastModifiedBy>
  <dcterms:modified xsi:type="dcterms:W3CDTF">2008-08-05T14:58:41Z</dcterms:modified>
  <cp:revision>35</cp:revision>
  <dc:subject/>
  <dc:title>“Clusters of size s”</dc:title>
</cp:coreProperties>
</file>