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E056-FB61-4284-A982-D3FBA356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352680" y="380880"/>
            <a:ext cx="3276720" cy="2457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Ising model of magnetism is worth talking about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nds itself to an application of the percolation theory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percolation probability, average cluster size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ir associated exponents are quite relev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the application that motivated our researc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it is also lends itself to a classic exampl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te-Carlo simulation in statistical mechanic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is model, a magnet is represen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a lattice of ato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’ll use a square lattice for this exam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atom is one of only two states: spin up or spin dow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y simplified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think of each atom as a very small mag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if you have a group of atoms that all have spin in the same dir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y add up to make a stronger magne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each bond, each one of these pairs of adjacent atoms has an energy associated with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Natur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bond with two atoms that oppose each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more energy then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the atoms are align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model is often used in simu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ropolis Monte Carlo algorithm is often used for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act, Brandon did a few experiments with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447920" y="533520"/>
            <a:ext cx="3809880" cy="2857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838080" y="3429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a very rough approxi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can say that each bond has a probabilit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ch we call p, of being align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we consider this lattice of bond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colation theory can tell us something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lusters of aligned bo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ince clusters of aligned bonds correspo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lusters of aligned ato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r little mini-magne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colation theory can tell us something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behavior of this mag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p chan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rthermo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 is related to temperature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ability of alignment increases as temperature decreas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 this should tell us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magnets beha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emperature chang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, what does it say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usters that are smaller than the infinit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umerous and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ly likely to point in either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same number point in each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 to cancel each othe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cluster, howev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cancel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the strength of the magnet (the magnetization)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the fraction of atoms in the infinite c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urn proportional to big-P, percolation prob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on showed you Percolation Probability vs. p earl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’ve already relate p to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rom this, we can estimate M vs.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 like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stimate is consistent with experimental dat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quantity that percolation can tell us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uscept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xplain 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asons I can’t get in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usceptibility tends to be hig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clusters are la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olation theory gives us average cluster size vs.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ith our assumptions, we have p related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should be able to relate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 like 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gain, this is consistent with experimental resul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we see very similar shapes in graphs of specific hea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closely related to magnetic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s you can see, P(p), S(p), and the exponents that correspon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important to studying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comes to show why we are interested in studying these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overs the common groun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wo projec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Brandon will tell you about h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654-B420-4C23-AFA1-8EC547D9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B53-3B73-419C-856A-D58A5FE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E527-5DFB-4693-8807-D919DA89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EA9-6A21-4F37-9922-E83C733F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35B-DD2D-4F57-A2BB-6F6ACB96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CF1-546C-49AB-B80F-F7282252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24A-F406-45C2-BC61-54E1642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151-3522-4488-AE37-FC33F55F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1D8-EF68-4759-82FD-CF58C55A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135-7B4A-4557-A050-E648D2BE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EE0-4234-4526-8B84-92E594B7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C3D-6565-4490-A3F3-D8D0F6DE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9E4-F9B2-4A48-A578-09429CE1F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lattice of atoms that are randomly oriented spin up or spin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ond has an energy associat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14400" y="1523880"/>
            <a:ext cx="2743200" cy="3004920"/>
            <a:chOff x="914400" y="1523880"/>
            <a:chExt cx="2743200" cy="3004920"/>
          </a:xfrm>
        </p:grpSpPr>
        <p:sp>
          <p:nvSpPr>
            <p:cNvPr id="51" name=""/>
            <p:cNvSpPr/>
            <p:nvPr/>
          </p:nvSpPr>
          <p:spPr>
            <a:xfrm>
              <a:off x="1828800" y="15238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43200" y="15238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57600" y="15238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14400" y="24382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1828800" y="2438280"/>
              <a:ext cx="0" cy="33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43200" y="24382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7600" y="2438280"/>
              <a:ext cx="0" cy="338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14400" y="32763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276000"/>
              <a:ext cx="0" cy="33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743200" y="32763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657600" y="32763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914400" y="41907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1828800" y="41907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3200" y="4190400"/>
              <a:ext cx="0" cy="33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657600" y="4190760"/>
              <a:ext cx="0" cy="338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914400" y="1523880"/>
              <a:ext cx="0" cy="338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14400" y="1676520"/>
            <a:ext cx="2743200" cy="2666880"/>
            <a:chOff x="914400" y="1676520"/>
            <a:chExt cx="2743200" cy="2666880"/>
          </a:xfrm>
        </p:grpSpPr>
        <p:sp>
          <p:nvSpPr>
            <p:cNvPr id="68" name=""/>
            <p:cNvSpPr/>
            <p:nvPr/>
          </p:nvSpPr>
          <p:spPr>
            <a:xfrm>
              <a:off x="10666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10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810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54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10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54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810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954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76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88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44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88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44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olation Theory + Is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each bond has a probability (p) of being alig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 ↑ as temperature ↓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828800" y="24382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144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32760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432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6576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144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8288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1904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576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14400" y="15238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4400" y="1676520"/>
            <a:ext cx="2743200" cy="2666880"/>
            <a:chOff x="914400" y="1676520"/>
            <a:chExt cx="2743200" cy="2666880"/>
          </a:xfrm>
        </p:grpSpPr>
        <p:sp>
          <p:nvSpPr>
            <p:cNvPr id="111" name=""/>
            <p:cNvSpPr/>
            <p:nvPr/>
          </p:nvSpPr>
          <p:spPr>
            <a:xfrm>
              <a:off x="10666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1676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95480" y="25909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5480" y="34290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666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4343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32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733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576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88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2895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76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14400" y="1981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14400" y="1676520"/>
            <a:ext cx="2743200" cy="2666880"/>
            <a:chOff x="914400" y="1676520"/>
            <a:chExt cx="2743200" cy="2666880"/>
          </a:xfrm>
        </p:grpSpPr>
        <p:sp>
          <p:nvSpPr>
            <p:cNvPr id="136" name=""/>
            <p:cNvSpPr/>
            <p:nvPr/>
          </p:nvSpPr>
          <p:spPr>
            <a:xfrm>
              <a:off x="1066680" y="434340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14400" y="3733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342900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259092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167652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1080" y="167652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3733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19810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19810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: Magne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24382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24382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9144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2760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7432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32763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44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288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4190400"/>
            <a:ext cx="0" cy="3380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57600" y="4190760"/>
            <a:ext cx="0" cy="338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914400" y="15238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523880"/>
            <a:ext cx="0" cy="338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4343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733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4290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2590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1676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1676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981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81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590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16765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1981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895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895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3434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429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16765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1143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1143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143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4648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6765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828800" y="15238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15238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657600" y="15238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43200" y="24382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657600" y="2438280"/>
            <a:ext cx="0" cy="338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smaller than the infinite cluster are numerous and 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end to cancel each other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inite cluster does not get canceled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’s strength is proportional to the fraction of atoms in the infinite clu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n turn is roughly proportional to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: Magne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20254" b="27256"/>
          <a:stretch/>
        </p:blipFill>
        <p:spPr>
          <a:xfrm>
            <a:off x="533520" y="2286000"/>
            <a:ext cx="3600360" cy="219564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114800" y="1955880"/>
            <a:ext cx="4147920" cy="2557800"/>
            <a:chOff x="4114800" y="1955880"/>
            <a:chExt cx="4147920" cy="2557800"/>
          </a:xfrm>
        </p:grpSpPr>
        <p:sp>
          <p:nvSpPr>
            <p:cNvPr id="195" name=""/>
            <p:cNvSpPr/>
            <p:nvPr/>
          </p:nvSpPr>
          <p:spPr>
            <a:xfrm>
              <a:off x="4800600" y="1981080"/>
              <a:ext cx="0" cy="213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600" y="41148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21160" y="195588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553080" y="4114800"/>
              <a:ext cx="1371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03840" y="2757600"/>
              <a:ext cx="1749240" cy="1357200"/>
            </a:xfrm>
            <a:custGeom>
              <a:avLst/>
              <a:gdLst/>
              <a:ahLst/>
              <a:rect l="l" t="t" r="r" b="b"/>
              <a:pathLst>
                <a:path w="1102" h="855">
                  <a:moveTo>
                    <a:pt x="1102" y="855"/>
                  </a:moveTo>
                  <a:cubicBezTo>
                    <a:pt x="1071" y="735"/>
                    <a:pt x="1102" y="274"/>
                    <a:pt x="918" y="137"/>
                  </a:cubicBezTo>
                  <a:cubicBezTo>
                    <a:pt x="734" y="0"/>
                    <a:pt x="191" y="52"/>
                    <a:pt x="0" y="3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14800" y="3200400"/>
              <a:ext cx="3808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26480" y="4114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ing Model: Magne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9810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4114800"/>
            <a:ext cx="31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1160" y="1955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53080" y="41148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840" y="2757600"/>
            <a:ext cx="1749240" cy="1357200"/>
          </a:xfrm>
          <a:custGeom>
            <a:avLst/>
            <a:gdLst/>
            <a:ahLst/>
            <a:rect l="l" t="t" r="r" b="b"/>
            <a:pathLst>
              <a:path w="1102" h="855">
                <a:moveTo>
                  <a:pt x="1102" y="855"/>
                </a:moveTo>
                <a:cubicBezTo>
                  <a:pt x="1071" y="735"/>
                  <a:pt x="1102" y="274"/>
                  <a:pt x="918" y="137"/>
                </a:cubicBezTo>
                <a:cubicBezTo>
                  <a:pt x="734" y="0"/>
                  <a:pt x="191" y="52"/>
                  <a:pt x="0" y="3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926480" y="4114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2298600"/>
            <a:ext cx="3505320" cy="2959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98880" y="28195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ing Model: Magnetic Suscep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magnetic susceptibilit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is measures how strongly a substance tends to magnetically align with an external magnetic fiel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verage cluster si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ing Model: Magnetic Suscep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3609" t="1967" r="3609" b="1967"/>
          <a:stretch/>
        </p:blipFill>
        <p:spPr>
          <a:xfrm>
            <a:off x="914400" y="1523880"/>
            <a:ext cx="3281400" cy="311652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4419720" y="1955880"/>
            <a:ext cx="3979440" cy="2568960"/>
            <a:chOff x="4419720" y="1955880"/>
            <a:chExt cx="3979440" cy="2568960"/>
          </a:xfrm>
        </p:grpSpPr>
        <p:sp>
          <p:nvSpPr>
            <p:cNvPr id="216" name=""/>
            <p:cNvSpPr/>
            <p:nvPr/>
          </p:nvSpPr>
          <p:spPr>
            <a:xfrm>
              <a:off x="4419720" y="2971800"/>
              <a:ext cx="3808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1981080"/>
              <a:ext cx="1440" cy="21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114800"/>
              <a:ext cx="31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62920" y="41259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25360" y="1955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05520" y="2046240"/>
              <a:ext cx="1371600" cy="2057400"/>
            </a:xfrm>
            <a:custGeom>
              <a:avLst/>
              <a:gdLst/>
              <a:ahLst/>
              <a:rect l="l" t="t" r="r" b="b"/>
              <a:pathLst>
                <a:path w="1080" h="1305">
                  <a:moveTo>
                    <a:pt x="0" y="1305"/>
                  </a:moveTo>
                  <a:cubicBezTo>
                    <a:pt x="141" y="1250"/>
                    <a:pt x="665" y="1193"/>
                    <a:pt x="845" y="976"/>
                  </a:cubicBezTo>
                  <a:cubicBezTo>
                    <a:pt x="1025" y="759"/>
                    <a:pt x="1041" y="163"/>
                    <a:pt x="108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477120" y="2057400"/>
              <a:ext cx="1371600" cy="2057400"/>
            </a:xfrm>
            <a:custGeom>
              <a:avLst/>
              <a:gdLst/>
              <a:ahLst/>
              <a:rect l="l" t="t" r="r" b="b"/>
              <a:pathLst>
                <a:path w="1080" h="1305">
                  <a:moveTo>
                    <a:pt x="0" y="1305"/>
                  </a:moveTo>
                  <a:cubicBezTo>
                    <a:pt x="141" y="1250"/>
                    <a:pt x="665" y="1193"/>
                    <a:pt x="845" y="976"/>
                  </a:cubicBezTo>
                  <a:cubicBezTo>
                    <a:pt x="1025" y="759"/>
                    <a:pt x="1041" y="163"/>
                    <a:pt x="108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192560" cy="40006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ing Model: Magnetic Suscept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1981080"/>
            <a:ext cx="1440" cy="21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4114800"/>
            <a:ext cx="31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62920" y="4125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25360" y="195588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2046240"/>
            <a:ext cx="1371600" cy="2057400"/>
          </a:xfrm>
          <a:custGeom>
            <a:avLst/>
            <a:gdLst/>
            <a:ahLst/>
            <a:rect l="l" t="t" r="r" b="b"/>
            <a:pathLst>
              <a:path w="1080" h="1305">
                <a:moveTo>
                  <a:pt x="0" y="1305"/>
                </a:moveTo>
                <a:cubicBezTo>
                  <a:pt x="141" y="1250"/>
                  <a:pt x="665" y="1193"/>
                  <a:pt x="845" y="976"/>
                </a:cubicBezTo>
                <a:cubicBezTo>
                  <a:pt x="1025" y="759"/>
                  <a:pt x="1041" y="163"/>
                  <a:pt x="108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477120" y="2057400"/>
            <a:ext cx="1371600" cy="2057400"/>
          </a:xfrm>
          <a:custGeom>
            <a:avLst/>
            <a:gdLst/>
            <a:ahLst/>
            <a:rect l="l" t="t" r="r" b="b"/>
            <a:pathLst>
              <a:path w="1080" h="1305">
                <a:moveTo>
                  <a:pt x="0" y="1305"/>
                </a:moveTo>
                <a:cubicBezTo>
                  <a:pt x="141" y="1250"/>
                  <a:pt x="665" y="1193"/>
                  <a:pt x="845" y="976"/>
                </a:cubicBezTo>
                <a:cubicBezTo>
                  <a:pt x="1025" y="759"/>
                  <a:pt x="1041" y="163"/>
                  <a:pt x="1080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3800" y="259092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19:48:36Z</dcterms:created>
  <dc:creator>IMP Student</dc:creator>
  <dc:description/>
  <dc:language>en-US</dc:language>
  <cp:lastModifiedBy>IMP Student</cp:lastModifiedBy>
  <dcterms:modified xsi:type="dcterms:W3CDTF">2008-08-05T14:46:13Z</dcterms:modified>
  <cp:revision>29</cp:revision>
  <dc:subject/>
  <dc:title>Percolation Theory + Ising Model</dc:title>
</cp:coreProperties>
</file>