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DEBD-89FA-432F-8E7D-9D5F19BE2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graph Brandon produced from ID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here he has several different Ising model r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everal different values of epsi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, epsilon refl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352680" y="380880"/>
            <a:ext cx="3276720" cy="24577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Ising model of magnetism is worth talking about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n application of the percolation theory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re percolation probability, average cluster size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ir associated exponents are quite releva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Prof. Reich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pplication that motivated this researc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it is also lends itself to a classic exampl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e-Carlo simulation in statistical mechanic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this model, a magnet is represen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a lattice of atom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’ll use a square lattice for this examp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ach atom is one of only two states: spin up or spin dow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y simplified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n think of each atom as a very small magn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if you have a group of atoms that all have spin in the same dir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y add up to make a stronger magne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each bond, each one of these pairs of adjacent atoms has an energy associated with i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urally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bond with two atoms that oppose each 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more energy then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re the atoms are align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 we say that anti-aligned bonds have energy positive-epsilo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le aligned bonds have energy negative-epsil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ing up the energies of all the bond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 energy of this latt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positive 4 epsil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imulate an actual magnet with this mode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can use an repeated proces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metropolis Monte-Carlo Algorith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ach repetition, here is what the we 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ck an atom at random and flip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the total energy had decreased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would be done, and would move to the next iter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ce the total energy increas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would move to the next ste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would evaluate </a:t>
            </a:r>
            <a:r>
              <a:rPr b="0" lang="en-US" sz="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800" spc="-1" strike="noStrike" baseline="30000">
                <a:solidFill>
                  <a:srgbClr val="0033cc"/>
                </a:solidFill>
                <a:latin typeface="Arial"/>
              </a:rPr>
              <a:t>(</a:t>
            </a:r>
            <a:r>
              <a:rPr b="0" lang="el-GR" sz="800" spc="-1" strike="noStrike" baseline="30000">
                <a:solidFill>
                  <a:srgbClr val="0033cc"/>
                </a:solidFill>
                <a:latin typeface="Arial"/>
                <a:ea typeface="Arial"/>
              </a:rPr>
              <a:t>Δ</a:t>
            </a:r>
            <a:r>
              <a:rPr b="0" lang="en-US" sz="800" spc="-1" strike="noStrike" baseline="30000">
                <a:solidFill>
                  <a:srgbClr val="0033cc"/>
                </a:solidFill>
                <a:latin typeface="Arial"/>
                <a:ea typeface="Arial"/>
              </a:rPr>
              <a:t>E</a:t>
            </a:r>
            <a:r>
              <a:rPr b="0" lang="en-US" sz="800" spc="-1" strike="noStrike" baseline="30000">
                <a:solidFill>
                  <a:srgbClr val="0033cc"/>
                </a:solidFill>
                <a:latin typeface="Arial"/>
              </a:rPr>
              <a:t>)/(kT)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generate a random number between 0 and 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the random number was greater than the expression, we would flip the atom back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wise, we’d leave i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you repeat this process many times, you can see some trends like this 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FC3-141C-4DA6-ADF9-29A6DED4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89CC-6EE9-4FDA-BB17-96419CDD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2DE-BD08-4E10-932D-46BA2764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F68-0B3D-4EB5-B715-9A79DFEC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49B-EEED-4E8B-8A17-3D73CB75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76C-E212-46FA-847A-FC2F65C0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CD0-436C-46B9-81E6-A9F70C95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7E5-D4D2-475F-9FAB-C4F5EED2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6F04-7C18-4B4B-A57D-F41E1DB4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BAF-077C-4743-ABFA-EF541319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946-2DDB-4580-AD4A-C47F05FC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008-6095-4FF6-8444-C0DF82B1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4F01-E88C-4CF9-A195-4FCDDEAF4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495680" y="1676520"/>
          <a:ext cx="4419720" cy="4010040"/>
        </p:xfrm>
        <a:graphic>
          <a:graphicData uri="http://schemas.openxmlformats.org/drawingml/2006/table">
            <a:tbl>
              <a:tblPr/>
              <a:tblGrid>
                <a:gridCol w="549360"/>
                <a:gridCol w="441360"/>
                <a:gridCol w="571680"/>
                <a:gridCol w="571320"/>
                <a:gridCol w="571680"/>
                <a:gridCol w="571320"/>
                <a:gridCol w="571680"/>
                <a:gridCol w="57132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of transitioning to position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 rowSpan="6">
                  <a:txBody>
                    <a:bodyPr lIns="90000" rIns="90000" tIns="46800" bIns="46800" anchor="ctr" anchorCtr="1" vert="eaVer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position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990720" y="2438280"/>
            <a:ext cx="2743200" cy="2741760"/>
          </a:xfrm>
          <a:prstGeom prst="donut">
            <a:avLst>
              <a:gd name="adj" fmla="val 11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286440" y="4340520"/>
            <a:ext cx="265320" cy="14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3286440" y="4340520"/>
            <a:ext cx="265320" cy="14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297600" y="3123720"/>
            <a:ext cx="262800" cy="15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162080" y="4345200"/>
            <a:ext cx="265320" cy="15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3880" y="3123720"/>
            <a:ext cx="262800" cy="15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3623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4662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4662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7960" y="380844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ing Method: the Math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clusters X and Y (both of size 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→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→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we run the process long enough, every cluster has a chance of being sampled, regardless of where we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more than enough to prove that our method will give us a random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ov Chain Monte Car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a cluster via Eden grow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ly select a cluster point. Remov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if this action broke the clu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did, put the point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add a point to a randomly selected perimeter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perimeter length of whatever cluster we end up wi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step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74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in some arbitrary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to a new st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predefined transition matrix, select the probability distribution that corresponds to the current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is distribution, randomly select a new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step 2 as des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2716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343400" y="1600200"/>
            <a:ext cx="1066680" cy="609480"/>
            <a:chOff x="4343400" y="1600200"/>
            <a:chExt cx="1066680" cy="609480"/>
          </a:xfrm>
        </p:grpSpPr>
        <p:sp>
          <p:nvSpPr>
            <p:cNvPr id="71" name=""/>
            <p:cNvSpPr/>
            <p:nvPr/>
          </p:nvSpPr>
          <p:spPr>
            <a:xfrm>
              <a:off x="5257800" y="1600200"/>
              <a:ext cx="152280" cy="60948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43400" y="1600200"/>
              <a:ext cx="152280" cy="533520"/>
            </a:xfrm>
            <a:custGeom>
              <a:avLst/>
              <a:gdLst>
                <a:gd name="textAreaLeft" fmla="*/ 0 w 152280"/>
                <a:gd name="textAreaRight" fmla="*/ 106920 w 15228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1" idx="1"/>
              <a:endCxn id="72" idx="2"/>
            </p:cNvCxnSpPr>
            <p:nvPr/>
          </p:nvCxnSpPr>
          <p:spPr>
            <a:xfrm flipH="1" flipV="1">
              <a:off x="4494960" y="1866600"/>
              <a:ext cx="762840" cy="3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74" name=""/>
          <p:cNvGrpSpPr/>
          <p:nvPr/>
        </p:nvGrpSpPr>
        <p:grpSpPr>
          <a:xfrm>
            <a:off x="4343400" y="2133720"/>
            <a:ext cx="1066680" cy="3047760"/>
            <a:chOff x="4343400" y="2133720"/>
            <a:chExt cx="1066680" cy="3047760"/>
          </a:xfrm>
        </p:grpSpPr>
        <p:sp>
          <p:nvSpPr>
            <p:cNvPr id="75" name=""/>
            <p:cNvSpPr/>
            <p:nvPr/>
          </p:nvSpPr>
          <p:spPr>
            <a:xfrm>
              <a:off x="5257800" y="2209680"/>
              <a:ext cx="152280" cy="297180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123840 h 2971800"/>
                <a:gd name="textAreaBottom" fmla="*/ 284832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43400" y="2133720"/>
              <a:ext cx="152280" cy="2438280"/>
            </a:xfrm>
            <a:custGeom>
              <a:avLst/>
              <a:gdLst>
                <a:gd name="textAreaLeft" fmla="*/ 0 w 152280"/>
                <a:gd name="textAreaRight" fmla="*/ 106920 w 152280"/>
                <a:gd name="textAreaTop" fmla="*/ 101520 h 2438280"/>
                <a:gd name="textAreaBottom" fmla="*/ 233676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"/>
            <p:cNvCxnSpPr>
              <a:stCxn id="75" idx="1"/>
              <a:endCxn id="76" idx="2"/>
            </p:cNvCxnSpPr>
            <p:nvPr/>
          </p:nvCxnSpPr>
          <p:spPr>
            <a:xfrm flipH="1" flipV="1">
              <a:off x="4494960" y="3351960"/>
              <a:ext cx="762840" cy="34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78" name=""/>
          <p:cNvGrpSpPr/>
          <p:nvPr/>
        </p:nvGrpSpPr>
        <p:grpSpPr>
          <a:xfrm>
            <a:off x="2666880" y="5181480"/>
            <a:ext cx="2743200" cy="609840"/>
            <a:chOff x="2666880" y="5181480"/>
            <a:chExt cx="2743200" cy="609840"/>
          </a:xfrm>
        </p:grpSpPr>
        <p:sp>
          <p:nvSpPr>
            <p:cNvPr id="79" name=""/>
            <p:cNvSpPr/>
            <p:nvPr/>
          </p:nvSpPr>
          <p:spPr>
            <a:xfrm>
              <a:off x="2666880" y="5486400"/>
              <a:ext cx="152640" cy="304920"/>
            </a:xfrm>
            <a:custGeom>
              <a:avLst/>
              <a:gdLst>
                <a:gd name="textAreaLeft" fmla="*/ 0 w 152640"/>
                <a:gd name="textAreaRight" fmla="*/ 107280 w 152640"/>
                <a:gd name="textAreaTop" fmla="*/ 12600 h 304920"/>
                <a:gd name="textAreaBottom" fmla="*/ 2923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57800" y="5181480"/>
              <a:ext cx="152280" cy="60984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25200 h 609840"/>
                <a:gd name="textAreaBottom" fmla="*/ 58464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80" idx="1"/>
              <a:endCxn id="79" idx="2"/>
            </p:cNvCxnSpPr>
            <p:nvPr/>
          </p:nvCxnSpPr>
          <p:spPr>
            <a:xfrm flipH="1">
              <a:off x="2818800" y="5486040"/>
              <a:ext cx="24390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librium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n growth tends to produce clusters of small peri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a bias toward small perimeters, we discard data from our Markov chain program until it reaches a more “typical” clu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3320" y="63244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Markov chain it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447920" y="3657600"/>
            <a:ext cx="6678000" cy="2743200"/>
            <a:chOff x="1447920" y="3657600"/>
            <a:chExt cx="6678000" cy="274320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828800" y="3657600"/>
              <a:ext cx="54864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rot="16200000">
              <a:off x="704880" y="4632120"/>
              <a:ext cx="185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imeter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17360" y="3809880"/>
              <a:ext cx="80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=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ing model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gher tempera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ke the difference in probability between aligned and anti-aligned states neglig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162920" cy="3818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74200" y="624852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It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-774000" y="420660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bond energy (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2895480"/>
            <a:ext cx="762120" cy="533520"/>
          </a:xfrm>
          <a:prstGeom prst="wedgeRoundRectCallout">
            <a:avLst>
              <a:gd name="adj1" fmla="val -43125"/>
              <a:gd name="adj2" fmla="val -9851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3352680"/>
            <a:ext cx="1067040" cy="533520"/>
          </a:xfrm>
          <a:prstGeom prst="wedgeRoundRectCallout">
            <a:avLst>
              <a:gd name="adj1" fmla="val -62203"/>
              <a:gd name="adj2" fmla="val 96129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=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5181480"/>
            <a:ext cx="1066680" cy="533520"/>
          </a:xfrm>
          <a:prstGeom prst="wedgeRoundRectCallout">
            <a:avLst>
              <a:gd name="adj1" fmla="val -55208"/>
              <a:gd name="adj2" fmla="val 93152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=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580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ing model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a lattice of atoms that are randomly oriented spin up or spin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ond has an energy associated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334120" y="1981080"/>
            <a:ext cx="2743200" cy="3004920"/>
            <a:chOff x="5334120" y="1981080"/>
            <a:chExt cx="2743200" cy="3004920"/>
          </a:xfrm>
        </p:grpSpPr>
        <p:sp>
          <p:nvSpPr>
            <p:cNvPr id="102" name=""/>
            <p:cNvSpPr/>
            <p:nvPr/>
          </p:nvSpPr>
          <p:spPr>
            <a:xfrm>
              <a:off x="6248520" y="1981080"/>
              <a:ext cx="0" cy="338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62920" y="1981080"/>
              <a:ext cx="0" cy="338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77320" y="1981080"/>
              <a:ext cx="0" cy="338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34120" y="2895480"/>
              <a:ext cx="0" cy="338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6248520" y="2895480"/>
              <a:ext cx="0" cy="338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0" cy="338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77320" y="2895480"/>
              <a:ext cx="0" cy="338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334120" y="3733560"/>
              <a:ext cx="0" cy="338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48520" y="3733200"/>
              <a:ext cx="0" cy="338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162920" y="3733560"/>
              <a:ext cx="0" cy="338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077320" y="3733560"/>
              <a:ext cx="0" cy="338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334120" y="4647960"/>
              <a:ext cx="0" cy="338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48520" y="4647600"/>
              <a:ext cx="0" cy="338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4647600"/>
              <a:ext cx="0" cy="338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077320" y="4647960"/>
              <a:ext cx="0" cy="338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334120" y="1981080"/>
              <a:ext cx="0" cy="338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31520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4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0080" y="5486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34120" y="2133720"/>
            <a:ext cx="2743200" cy="2666880"/>
            <a:chOff x="5334120" y="2133720"/>
            <a:chExt cx="2743200" cy="2666880"/>
          </a:xfrm>
        </p:grpSpPr>
        <p:sp>
          <p:nvSpPr>
            <p:cNvPr id="121" name=""/>
            <p:cNvSpPr/>
            <p:nvPr/>
          </p:nvSpPr>
          <p:spPr>
            <a:xfrm>
              <a:off x="5486400" y="21337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21337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5200" y="21337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86400" y="30481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30481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15200" y="30481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40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0080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1520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86400" y="48006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00800" y="48006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5200" y="48006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077320" y="4191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62920" y="4191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48520" y="4191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34120" y="4191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7732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6292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4852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3412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77320" y="2438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62920" y="2438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48520" y="2438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2438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ropolis Monte-Carlo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ly pick a site and flip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action decreased total energy, then we are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generate a random nu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random number is greater than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(</a:t>
            </a:r>
            <a:r>
              <a:rPr b="0" lang="el-GR" sz="2000" spc="-1" strike="noStrike" baseline="30000">
                <a:solidFill>
                  <a:srgbClr val="0033cc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)/(k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lip it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, keep the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486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5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1981080"/>
            <a:ext cx="0" cy="338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1981080"/>
            <a:ext cx="0" cy="338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77320" y="1981080"/>
            <a:ext cx="0" cy="338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895480"/>
            <a:ext cx="0" cy="338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48520" y="2895480"/>
            <a:ext cx="0" cy="338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2895480"/>
            <a:ext cx="0" cy="338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77320" y="2895480"/>
            <a:ext cx="0" cy="338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334120" y="3733560"/>
            <a:ext cx="0" cy="338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3733200"/>
            <a:ext cx="0" cy="33804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162920" y="3733560"/>
            <a:ext cx="0" cy="338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077320" y="3733560"/>
            <a:ext cx="0" cy="338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334120" y="4647960"/>
            <a:ext cx="0" cy="338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4647600"/>
            <a:ext cx="0" cy="33804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4647600"/>
            <a:ext cx="0" cy="33804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077320" y="4647960"/>
            <a:ext cx="0" cy="338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334120" y="1981080"/>
            <a:ext cx="0" cy="338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4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5486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20:09:08Z</dcterms:created>
  <dc:creator>IMP Student</dc:creator>
  <dc:description/>
  <dc:language>en-US</dc:language>
  <cp:lastModifiedBy>IMP Student</cp:lastModifiedBy>
  <dcterms:modified xsi:type="dcterms:W3CDTF">2008-08-04T18:00:18Z</dcterms:modified>
  <cp:revision>4</cp:revision>
  <dc:subject/>
  <dc:title>Slide 1</dc:title>
</cp:coreProperties>
</file>